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176-68AE-4478-A4BD-D2E55093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3FC-9D27-4BF3-86E2-72427BF6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C3D-0E79-424E-8BAD-9063958F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699-DD99-4B63-B12E-E0C2EEF1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C6A-016E-4607-BA16-94C3A69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511-2950-48E6-98B9-8F797600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A64-15E3-4BA1-9D12-3D0FF7DF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F13-B92A-402D-91C2-D505E07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B52-23FD-44B3-B305-22FDB99E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2A2-1022-447D-AA1C-8A2E789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936-2CD7-4ADB-AC80-81353605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436-146C-406B-BE79-A82F9BA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473-C42E-49ED-9C9C-40FA2977F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Unit 3 Day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2331720"/>
            <a:ext cx="54864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re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oduster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051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n American 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sas 18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 by “Pap” Sing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his words, what would he say about African Americans’ opportunities in the Sou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egendsofkansas.com/people/Benjamin%20Pap%20Singleton-500.jpg"/>
          <p:cNvPicPr/>
          <p:nvPr/>
        </p:nvPicPr>
        <p:blipFill>
          <a:blip r:embed="rId2"/>
          <a:stretch/>
        </p:blipFill>
        <p:spPr>
          <a:xfrm>
            <a:off x="5638680" y="1523880"/>
            <a:ext cx="31813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ern Far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ed Farmers’ National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0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2 million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ebraskahistory.org/images/publish/alliance.jpg"/>
          <p:cNvPicPr/>
          <p:nvPr/>
        </p:nvPicPr>
        <p:blipFill>
          <a:blip r:embed="rId2"/>
          <a:stretch/>
        </p:blipFill>
        <p:spPr>
          <a:xfrm>
            <a:off x="2209680" y="3352680"/>
            <a:ext cx="5034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mendment looph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o to p. 134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hat was the looph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l 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$2 to regi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teracy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d and understand State Con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andfather Clause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r ancestor voted before 186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l Rights Act 1875 repea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mendm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passed Jim Crow 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lessy v. Fergus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r Ples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d being forced to sit in separate railc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held “separate but equal” ru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ncpedia.org/sites/default/files/jacobs%20schoo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n America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a B. W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y Church Te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er T.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.E.B. du Bo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leader ab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pecifically did they fight again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id they achieve for African American righ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12:17:44Z</dcterms:created>
  <dc:creator>loftonm</dc:creator>
  <dc:description/>
  <dc:language>en-US</dc:language>
  <cp:lastModifiedBy>Sacerdote, Kevin R.</cp:lastModifiedBy>
  <dcterms:modified xsi:type="dcterms:W3CDTF">2016-10-18T12:08:24Z</dcterms:modified>
  <cp:revision>17</cp:revision>
  <dc:subject/>
  <dc:title>Segregation</dc:title>
</cp:coreProperties>
</file>